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B7D7-E749-4AFA-BAC1-4BA75E83D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7094-268A-478F-B5BE-228231B7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7C01-5BAB-480A-9100-2FB1098C7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994C-1EBA-493C-A65F-11E63BD84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C804-7977-4F35-886C-B27C03F1D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43743-845E-442B-9BFE-B0F5B6F2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8F7B5-B5A7-4F6A-B940-7BC15294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9877-C0C7-41A1-A95F-42097CDF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51C62-083C-429B-81E0-2F0125BA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10D5-41C7-4087-9554-5494AFA9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C682-7D3E-43CE-9DE0-5D4D180B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04B2-913A-4C57-8264-115B2986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9D3A-91B8-4A81-8141-3D581C7D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F3B2-DCA4-4077-AAB0-FC99FD71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96D5-CAA5-4EDD-953F-E36EED2F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93164-D940-4B53-989A-354C9D027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8F41-D87A-4A47-B6AF-F8352893C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F19EC-A9FE-4833-BEE2-4523CF11C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F57B1-518F-450D-9DEC-AECA1A51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E8807-5EDC-444A-B3C8-542FA7D2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9B8D7-D4B6-47A7-B1E2-4D7E2702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C72E6-C862-4623-B5EB-97A21852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1AE1-DD16-48A9-82D0-68B00D19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DE4A6-1E9B-4EDD-9887-1E03412C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C83F3-35DD-4739-A5FE-B1A87DE6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97839-B152-4D8C-91BE-21B889B1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A1D48-3253-4BE8-8E1E-FF018847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FF928-4A18-4B07-930B-5A0922C6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D431E-B374-414F-88E9-7191C4F39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E5945-4395-45F5-8BF9-2C266E5C3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DECF-E887-4B3B-A1A9-AE48F6AF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084D-DA23-460C-A57B-C83421D6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4BE2-A648-46D1-AEE1-FFC9F90F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69BD-C9F9-4ED4-A0FD-9F56592F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F495-379F-4A09-AF31-7595515C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BA17-D0A7-40FD-9A5B-2CB62E58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86D5-18F5-4D79-9055-325F46892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62FA-89C1-496B-B353-8E21F63C7E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d3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6B2D-9741-497D-8F05-A6AEE8D65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6480" y="2276640"/>
            <a:ext cx="9144000" cy="15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Introduction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to laboratory practic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672080" y="5656320"/>
            <a:ext cx="447192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epartment of Physi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387360" y="14436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CULTY OF MEDICAL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GRATED ACADEMIC STUDIES OF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2700360" y="393372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eek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42600" y="356760"/>
            <a:ext cx="800100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38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ING OF SPECIFIC EFFECTS ON EXPERIMENTAL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785880" y="2000160"/>
            <a:ext cx="81072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LATION                                DOG, RAT RESPIRATION                                RAT, GUINEA P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TROINTESTINAL                    R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MATOLOGY                               MOUSE, R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ROLOGY                                 CAT, R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MONES                                   RAT, D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URESIS                                       D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ight Arrow 6"/>
          <p:cNvSpPr/>
          <p:nvPr/>
        </p:nvSpPr>
        <p:spPr>
          <a:xfrm flipV="1">
            <a:off x="4140360" y="2142360"/>
            <a:ext cx="928440" cy="214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ight Arrow 7"/>
          <p:cNvSpPr/>
          <p:nvPr/>
        </p:nvSpPr>
        <p:spPr>
          <a:xfrm flipV="1">
            <a:off x="4140360" y="3428280"/>
            <a:ext cx="928440" cy="214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ight Arrow 8"/>
          <p:cNvSpPr/>
          <p:nvPr/>
        </p:nvSpPr>
        <p:spPr>
          <a:xfrm flipV="1">
            <a:off x="4140360" y="3928320"/>
            <a:ext cx="928440" cy="214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ight Arrow 9"/>
          <p:cNvSpPr/>
          <p:nvPr/>
        </p:nvSpPr>
        <p:spPr>
          <a:xfrm flipV="1">
            <a:off x="4140360" y="4357080"/>
            <a:ext cx="928440" cy="214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ight Arrow 10"/>
          <p:cNvSpPr/>
          <p:nvPr/>
        </p:nvSpPr>
        <p:spPr>
          <a:xfrm flipV="1">
            <a:off x="4140360" y="4786200"/>
            <a:ext cx="928440" cy="214560"/>
          </a:xfrm>
          <a:prstGeom prst="rightArrow">
            <a:avLst>
              <a:gd name="adj1" fmla="val 50000"/>
              <a:gd name="adj2" fmla="val 49923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ight Arrow 11"/>
          <p:cNvSpPr/>
          <p:nvPr/>
        </p:nvSpPr>
        <p:spPr>
          <a:xfrm flipV="1">
            <a:off x="4140360" y="2571120"/>
            <a:ext cx="928440" cy="214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ight Arrow 12"/>
          <p:cNvSpPr/>
          <p:nvPr/>
        </p:nvSpPr>
        <p:spPr>
          <a:xfrm flipV="1">
            <a:off x="4140360" y="3000240"/>
            <a:ext cx="928440" cy="214560"/>
          </a:xfrm>
          <a:prstGeom prst="rightArrow">
            <a:avLst>
              <a:gd name="adj1" fmla="val 50000"/>
              <a:gd name="adj2" fmla="val 49923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57120" y="1214280"/>
            <a:ext cx="8377200" cy="16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ts val="38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conditioning of laboratory animals – immobilization and anesthe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2500200" y="3143160"/>
            <a:ext cx="46436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56760" y="214200"/>
            <a:ext cx="85726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obilization metho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Mechanica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different apparatus for suspen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Pharmacologi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surgical anesthes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427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427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4272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Electro-acupuncture anesthesi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stimulation of acupuncture points = opioid substances secre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427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42976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anesthesi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the application of drugs that block the transfer of pain in the sensory nerves of selected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0" y="1483920"/>
            <a:ext cx="608472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anesthe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ade of  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nels (on cytoplasmic side) – enables the generation of action potent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myelinated fibers (and thinner myelinated fibers) are blocked first = pain, temperature (C, Aδ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elinated fibers (Aα,  Aβ) are blocked later = touch,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http://amaprod.silverchaircdn.com/data/Journals/JAMA/22468/m_jpg15020fa.png"/>
          <p:cNvPicPr/>
          <p:nvPr/>
        </p:nvPicPr>
        <p:blipFill>
          <a:blip r:embed="rId1"/>
          <a:stretch/>
        </p:blipFill>
        <p:spPr>
          <a:xfrm>
            <a:off x="6093000" y="2133720"/>
            <a:ext cx="3051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42560" y="2708280"/>
            <a:ext cx="7093080" cy="39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is no cross reaction!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nsitivity after 10 minutes (up to couple of hour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f administr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opical (spraying or drop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local infiltration (by inje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lock anesthesia (near nerves rou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pinal anesthesia (subarachnoid sp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epid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5" descr="http://www.intelligentdental.com/wp-content/uploads/2012/02/lokalna-anestezija.jpg"/>
          <p:cNvPicPr/>
          <p:nvPr/>
        </p:nvPicPr>
        <p:blipFill>
          <a:blip r:embed="rId1"/>
          <a:stretch/>
        </p:blipFill>
        <p:spPr>
          <a:xfrm>
            <a:off x="5987880" y="4508640"/>
            <a:ext cx="3156120" cy="23493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"/>
          <p:cNvSpPr/>
          <p:nvPr/>
        </p:nvSpPr>
        <p:spPr>
          <a:xfrm>
            <a:off x="250920" y="404640"/>
            <a:ext cx="7993080" cy="17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s of local anesthetic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st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rocaine, tetracaine – short effect, about 45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mi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lidocaine, bupivacaine – prolonged effect, up to 1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h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9"/>
          <p:cNvSpPr/>
          <p:nvPr/>
        </p:nvSpPr>
        <p:spPr>
          <a:xfrm>
            <a:off x="216000" y="2205000"/>
            <a:ext cx="58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Norepinephrine is usually added  to delay drugs upt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786880" cy="264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anesthesi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reversible, selective inhibition of C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GESIA = absence of pa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FLEXIA  = absence of deep tendon reflex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NIA        = absence of skeletal muscles ton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57120" y="2571840"/>
            <a:ext cx="86630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chieve analgesia, areflexia, and atonia while preserving respiration and cir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inciple dis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alatory – difficult for do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avenous – short lasting, up to 10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isk of overdose – CNS, C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57120" y="785520"/>
            <a:ext cx="87868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anesthesia administ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b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f anesthetic ga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aven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alatory anesthet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ers – diethileter, methoxyfluran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ogenated hydrocarbons – halothane, trichloroethylen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rous oxide (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avenous anesthetic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opental sodium (ultra-short-acting barbitur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omi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f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ta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9680" y="285840"/>
            <a:ext cx="600084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l anesthesia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07640" y="1341000"/>
            <a:ext cx="57150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Analge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Excitation (delir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Surgical anesthe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Medullar par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5292720" y="2565360"/>
            <a:ext cx="38512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-36360" y="260280"/>
            <a:ext cx="90360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ANALGESIA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 from the moment of administration to the moment of unconsciousness, touch sensation preserved -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ffects on brain cort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EXCITATION (DELIRIUM)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 from the moment of unconsciousness to the moment of spinal reflexes turn off.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linical sig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over reactivity, irregular breathing, increased muscle tone, mydriasis... Premedication can prevent or inhibit this ph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3. SURGICAL ANESTHESIA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 begins with skeletal muscles atonia and spinal reflexes turn off. Suitable for surgical intervention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linical sig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regular and slow breathing, decrease muscle tone, swallowing reflex turn off, circular eye movements –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ffects on spinal co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4. MEDULLAR PARALYSI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 if overdose the anesthetics may induc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the paralysis of brain ste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linical sig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irregular heartbeat with hypotension, respiration paralysis, sphincters relaxation, mydriasis with no response to light sensations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2492280"/>
            <a:ext cx="8520120" cy="357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aboratory animal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re selected species and housed in controlled populations, and used for research and testing to study about diseases, biological products, vaccines, etc.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choice depends on the type and aims of the experiment, but the animal must be HEALTHY.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most common laboratory animals are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mic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rat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guinea pig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rabbit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frogs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dog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cat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prim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929800" cy="111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ANNUAL EXPENDITURE FOR EXPERIMENTAL ANIMALS IN U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Content Placeholder 2"/>
          <p:cNvSpPr/>
          <p:nvPr/>
        </p:nvSpPr>
        <p:spPr>
          <a:xfrm>
            <a:off x="642960" y="1643040"/>
            <a:ext cx="787716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YPES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OTAL NUMBER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 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ats, mice, guinea pig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6.400.000       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abbits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3.300.000       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irds, frogs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05.000         0.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gs                                               84.000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0.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igs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42.000          0.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ts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9.000         0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on-human primates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           60.000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0.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tal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0.000.000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1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56800" y="285840"/>
            <a:ext cx="6316920" cy="56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ts and m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13840" y="1143000"/>
            <a:ext cx="60008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standing ability to ada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genome size and number of genes as 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 reproductive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life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not expensive, easy to handle and suitable for various manip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strains are developed through selection (knock out serie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ology, virology/bacteriology, oncology, hematology, gen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mouse"/>
          <p:cNvPicPr/>
          <p:nvPr/>
        </p:nvPicPr>
        <p:blipFill>
          <a:blip r:embed="rId1"/>
          <a:stretch/>
        </p:blipFill>
        <p:spPr>
          <a:xfrm>
            <a:off x="6215040" y="928800"/>
            <a:ext cx="262404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631656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uinea pi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600" y="1196640"/>
            <a:ext cx="91440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pecies of herbivorous rodent originating from South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, part of national cuisine (Peru, Boliv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 reproductive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ology, microbiology, endocrinology, immu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4500720" y="3857760"/>
            <a:ext cx="378612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71400" y="214200"/>
            <a:ext cx="185724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b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285560"/>
            <a:ext cx="5429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itable for dis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ob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also bred as domestic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munology, virus isolation, serum and vaccine standardization, isolated organs - phys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6000840" y="1143000"/>
            <a:ext cx="26431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2600" y="285480"/>
            <a:ext cx="3143160" cy="70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gs and c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71680" y="1214280"/>
            <a:ext cx="785808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ntly, they have been used more and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ally for new surgical techniques (transplant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g – gastrointestinal physiology and cir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4929120" y="3786120"/>
            <a:ext cx="3429000" cy="2786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285840" y="3786120"/>
            <a:ext cx="400032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57160" y="285480"/>
            <a:ext cx="2214720" cy="70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56760" y="1213920"/>
            <a:ext cx="5286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est model for examination of diseases in human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 - they are extremely expensive, so they are used less of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baby-02_small"/>
          <p:cNvPicPr/>
          <p:nvPr/>
        </p:nvPicPr>
        <p:blipFill>
          <a:blip r:embed="rId1"/>
          <a:stretch/>
        </p:blipFill>
        <p:spPr>
          <a:xfrm>
            <a:off x="5715000" y="1071720"/>
            <a:ext cx="279864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28480" y="356760"/>
            <a:ext cx="150012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00040" y="128556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itable for studying the physiology of muscles, nerves and spinal 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5572080" y="785880"/>
            <a:ext cx="3071880" cy="2357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2"/>
          <a:stretch/>
        </p:blipFill>
        <p:spPr>
          <a:xfrm>
            <a:off x="6072120" y="371484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2T13:55:53Z</dcterms:created>
  <dc:creator>Maja</dc:creator>
  <dc:description/>
  <dc:language>en-US</dc:language>
  <cp:lastModifiedBy>Korisnik</cp:lastModifiedBy>
  <dcterms:modified xsi:type="dcterms:W3CDTF">2023-10-10T09:49:49Z</dcterms:modified>
  <cp:revision>167</cp:revision>
  <dc:subject/>
  <dc:title>Slide 1</dc:title>
</cp:coreProperties>
</file>